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gif" ContentType="image/gif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B9A9A-6C23-4CF6-B92A-904B14ADA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1E22A-CE1B-4066-969A-0BDB797FA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B9E9A-533B-45A0-B27F-6054AB9C2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CF65D-B9A6-4818-A7CF-3C555573D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DCF3D-A7A4-4FF8-ABAF-31B2F2E83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E51EF-B958-40C1-85AF-2E125449E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BE99A-01CE-4161-8241-BD0B2EE16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DEEDD-1747-4A4B-8CB0-54E59EF57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0F692-A03E-409F-AC06-BEA900C32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A882A-24AB-4CC1-B17D-BCAFB90C4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2F3C7-152E-47A5-B71A-FF29A1E59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34F6B-CC20-453A-B3CD-22D6819EF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D579B-A51A-467A-A670-571F009AEB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readingrockets.org/transcript.php?ID=10" TargetMode="External"/><Relationship Id="rId2" Type="http://schemas.openxmlformats.org/officeDocument/2006/relationships/hyperlink" Target="http://www.readingrockets.org/transcript.php?ID=10" TargetMode="External"/><Relationship Id="rId3" Type="http://schemas.openxmlformats.org/officeDocument/2006/relationships/hyperlink" Target="http://www.readingrockets.org/transcript.php?ID=10" TargetMode="External"/><Relationship Id="rId4" Type="http://schemas.openxmlformats.org/officeDocument/2006/relationships/hyperlink" Target="http://www.readingrockets.org/transcript.php?ID=10" TargetMode="External"/><Relationship Id="rId5" Type="http://schemas.openxmlformats.org/officeDocument/2006/relationships/hyperlink" Target="http://www.readingrockets.org/transcript.php?ID=10" TargetMode="External"/><Relationship Id="rId6" Type="http://schemas.openxmlformats.org/officeDocument/2006/relationships/image" Target="../media/image20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09480" y="76320"/>
            <a:ext cx="7620120" cy="193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660066"/>
                </a:solidFill>
                <a:latin typeface="Comic Sans MS"/>
              </a:rPr>
              <a:t>Tomie de Paol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Comic Sans MS"/>
              </a:rPr>
              <a:t>Author and Illustrato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895480" y="2247840"/>
            <a:ext cx="3403800" cy="45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838080" y="4937040"/>
            <a:ext cx="8686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Comic Sans MS"/>
              </a:rPr>
              <a:t>This is a picture of Tomie’s grandfather, Tom.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498760" y="228600"/>
            <a:ext cx="405432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62120" y="5165640"/>
            <a:ext cx="8839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Comic Sans MS"/>
              </a:rPr>
              <a:t>Here’s a photo of Tom with Tomie’s mom, Flossi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752480" y="592200"/>
            <a:ext cx="5410440" cy="413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52280" y="501336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Comic Sans MS"/>
              </a:rPr>
              <a:t>This is a picture of Tomie’s favorite art teacher, Mrs. Bowers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514600" y="304920"/>
            <a:ext cx="39798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04920" y="4267080"/>
            <a:ext cx="85341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Comic Sans MS"/>
              </a:rPr>
              <a:t>We will learn about all of these people and more when we read Tomie’s memory storie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809800" y="228600"/>
            <a:ext cx="331956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52280" y="4952880"/>
            <a:ext cx="94489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Comic Sans MS"/>
              </a:rPr>
              <a:t>Tomie also writes books about the characters </a:t>
            </a:r>
            <a:r>
              <a:rPr b="1" lang="en-US" sz="4000" spc="-1" strike="noStrike">
                <a:solidFill>
                  <a:srgbClr val="a50021"/>
                </a:solidFill>
                <a:latin typeface="Comic Sans MS"/>
              </a:rPr>
              <a:t>Strega Nona</a:t>
            </a:r>
            <a:r>
              <a:rPr b="1" lang="en-US" sz="4000" spc="-1" strike="noStrike">
                <a:solidFill>
                  <a:srgbClr val="660066"/>
                </a:solidFill>
                <a:latin typeface="Comic Sans MS"/>
              </a:rPr>
              <a:t> and </a:t>
            </a:r>
            <a:r>
              <a:rPr b="1" lang="en-US" sz="4000" spc="-1" strike="noStrike">
                <a:solidFill>
                  <a:srgbClr val="a50021"/>
                </a:solidFill>
                <a:latin typeface="Comic Sans MS"/>
              </a:rPr>
              <a:t>Big Anthony</a:t>
            </a:r>
            <a:r>
              <a:rPr b="1" lang="en-US" sz="4000" spc="-1" strike="noStrike">
                <a:solidFill>
                  <a:srgbClr val="660066"/>
                </a:solidFill>
                <a:latin typeface="Comic Sans MS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rcRect l="0" t="0" r="35702" b="0"/>
          <a:stretch/>
        </p:blipFill>
        <p:spPr>
          <a:xfrm>
            <a:off x="1295280" y="304920"/>
            <a:ext cx="2659320" cy="4190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rcRect l="20742" t="23365" r="19615" b="0"/>
          <a:stretch/>
        </p:blipFill>
        <p:spPr>
          <a:xfrm>
            <a:off x="4800600" y="152280"/>
            <a:ext cx="271764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304920" y="4267080"/>
            <a:ext cx="82296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Comic Sans MS"/>
              </a:rPr>
              <a:t>Another great series of books tell about two friends named </a:t>
            </a:r>
            <a:r>
              <a:rPr b="1" lang="en-US" sz="4000" spc="-1" strike="noStrike">
                <a:solidFill>
                  <a:srgbClr val="a50021"/>
                </a:solidFill>
                <a:latin typeface="Comic Sans MS"/>
              </a:rPr>
              <a:t>Bill</a:t>
            </a:r>
            <a:r>
              <a:rPr b="1" lang="en-US" sz="4000" spc="-1" strike="noStrike">
                <a:solidFill>
                  <a:srgbClr val="660066"/>
                </a:solidFill>
                <a:latin typeface="Comic Sans MS"/>
              </a:rPr>
              <a:t> and </a:t>
            </a:r>
            <a:r>
              <a:rPr b="1" lang="en-US" sz="4000" spc="-1" strike="noStrike">
                <a:solidFill>
                  <a:srgbClr val="a50021"/>
                </a:solidFill>
                <a:latin typeface="Comic Sans MS"/>
              </a:rPr>
              <a:t>Pete</a:t>
            </a:r>
            <a:r>
              <a:rPr b="1" lang="en-US" sz="4000" spc="-1" strike="noStrike">
                <a:solidFill>
                  <a:srgbClr val="660066"/>
                </a:solidFill>
                <a:latin typeface="Comic Sans MS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rcRect l="48846" t="16223" r="0" b="0"/>
          <a:stretch/>
        </p:blipFill>
        <p:spPr>
          <a:xfrm>
            <a:off x="1995480" y="609480"/>
            <a:ext cx="2271600" cy="32004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rcRect l="0" t="16223" r="19688" b="0"/>
          <a:stretch/>
        </p:blipFill>
        <p:spPr>
          <a:xfrm>
            <a:off x="4267080" y="609480"/>
            <a:ext cx="263232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80880" y="4648320"/>
            <a:ext cx="81536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Comic Sans MS"/>
              </a:rPr>
              <a:t>Tomie’s newest series is about a family of dogs called the </a:t>
            </a:r>
            <a:r>
              <a:rPr b="1" lang="en-US" sz="4000" spc="-1" strike="noStrike">
                <a:solidFill>
                  <a:srgbClr val="a50021"/>
                </a:solidFill>
                <a:latin typeface="Comic Sans MS"/>
              </a:rPr>
              <a:t>Barkers</a:t>
            </a:r>
            <a:r>
              <a:rPr b="1" lang="en-US" sz="4000" spc="-1" strike="noStrike">
                <a:solidFill>
                  <a:srgbClr val="660066"/>
                </a:solidFill>
                <a:latin typeface="Comic Sans MS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rcRect l="57542" t="0" r="0" b="0"/>
          <a:stretch/>
        </p:blipFill>
        <p:spPr>
          <a:xfrm>
            <a:off x="1981080" y="228600"/>
            <a:ext cx="1819440" cy="4343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rcRect l="0" t="0" r="44199" b="0"/>
          <a:stretch/>
        </p:blipFill>
        <p:spPr>
          <a:xfrm>
            <a:off x="3809880" y="228600"/>
            <a:ext cx="281628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533520" y="4327560"/>
            <a:ext cx="76960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Comic Sans MS"/>
              </a:rPr>
              <a:t>Tomie’s illustrations and stories make his books very special books to read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2286000" y="317520"/>
            <a:ext cx="4343400" cy="363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380880" y="3505320"/>
            <a:ext cx="85345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Comic Sans MS"/>
              </a:rPr>
              <a:t>We will read many of Tomie’s books and learn all about his life this year in library class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33520" y="5638680"/>
            <a:ext cx="9296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50021"/>
                </a:solidFill>
                <a:latin typeface="Comic Sans MS"/>
              </a:rPr>
              <a:t>Tomie Books Are Great!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914400" y="304920"/>
            <a:ext cx="6985080" cy="30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80880" y="4784760"/>
            <a:ext cx="8534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Comic Sans MS"/>
              </a:rPr>
              <a:t>You can learn more about Tomie at home by going to his websit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143000" y="1066680"/>
            <a:ext cx="6781680" cy="21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09480" y="974880"/>
            <a:ext cx="83059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Comic Sans MS"/>
              </a:rPr>
              <a:t>Tomie de Paola is a famous author and illustrator.  He has written over 200 books for childre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76320" y="4732200"/>
            <a:ext cx="8978760" cy="10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228600" y="228600"/>
            <a:ext cx="5486400" cy="645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Comic Sans MS"/>
              </a:rPr>
              <a:t>We can also learn more about Tomie by listening to him tell us about himself in these special interview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Comic Sans MS"/>
                <a:hlinkClick r:id="rId1"/>
              </a:rPr>
              <a:t>http://www.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Comic Sans MS"/>
                <a:hlinkClick r:id="rId2"/>
              </a:rPr>
              <a:t>readingrockets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Comic Sans MS"/>
                <a:hlinkClick r:id="rId3"/>
              </a:rPr>
              <a:t>.org/transcript.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Comic Sans MS"/>
                <a:hlinkClick r:id="rId4"/>
              </a:rPr>
              <a:t>php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Comic Sans MS"/>
                <a:hlinkClick r:id="rId5"/>
              </a:rPr>
              <a:t>?ID=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6"/>
          <a:stretch/>
        </p:blipFill>
        <p:spPr>
          <a:xfrm>
            <a:off x="5853240" y="1447920"/>
            <a:ext cx="28717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04920" y="5089680"/>
            <a:ext cx="853416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Comic Sans MS"/>
              </a:rPr>
              <a:t>An </a:t>
            </a:r>
            <a:r>
              <a:rPr b="1" lang="en-US" sz="4000" spc="-1" strike="noStrike">
                <a:solidFill>
                  <a:srgbClr val="a50021"/>
                </a:solidFill>
                <a:latin typeface="Comic Sans MS"/>
              </a:rPr>
              <a:t>author</a:t>
            </a:r>
            <a:r>
              <a:rPr b="1" lang="en-US" sz="4000" spc="-1" strike="noStrike">
                <a:solidFill>
                  <a:srgbClr val="660066"/>
                </a:solidFill>
                <a:latin typeface="Comic Sans MS"/>
              </a:rPr>
              <a:t> is a person who writes books as a job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892600" y="228600"/>
            <a:ext cx="34318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52280" y="4937040"/>
            <a:ext cx="891540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Comic Sans MS"/>
              </a:rPr>
              <a:t>An </a:t>
            </a:r>
            <a:r>
              <a:rPr b="1" lang="en-US" sz="4000" spc="-1" strike="noStrike">
                <a:solidFill>
                  <a:srgbClr val="a50021"/>
                </a:solidFill>
                <a:latin typeface="Comic Sans MS"/>
              </a:rPr>
              <a:t>illustrator</a:t>
            </a:r>
            <a:r>
              <a:rPr b="1" lang="en-US" sz="4000" spc="-1" strike="noStrike">
                <a:solidFill>
                  <a:srgbClr val="660066"/>
                </a:solidFill>
                <a:latin typeface="Comic Sans MS"/>
              </a:rPr>
              <a:t> is a person who draws pictures for books as a job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743200" y="380880"/>
            <a:ext cx="365616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80880" y="4861080"/>
            <a:ext cx="8534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Comic Sans MS"/>
              </a:rPr>
              <a:t>Tomie does his work at his home in New Hampshir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514600" y="380880"/>
            <a:ext cx="4495680" cy="410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52280" y="4648320"/>
            <a:ext cx="89154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Comic Sans MS"/>
              </a:rPr>
              <a:t>Tomie knew he wanted to be an author and illustrator when he was only four years old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048120" y="457200"/>
            <a:ext cx="37018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85800" y="4114800"/>
            <a:ext cx="83818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Comic Sans MS"/>
              </a:rPr>
              <a:t>His cousins, who were artists, told him to practice, practice, practice.  Tomie did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76320" y="1752480"/>
            <a:ext cx="897876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04920" y="3946680"/>
            <a:ext cx="87627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Comic Sans MS"/>
              </a:rPr>
              <a:t>Tomie likes to write many different kinds of stories.  One group of his stories tell memories of when he was a little bo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838080" y="457200"/>
            <a:ext cx="6985080" cy="32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609480" y="5165640"/>
            <a:ext cx="8229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Comic Sans MS"/>
              </a:rPr>
              <a:t>This is a photograph of Tomie’s family when he was a little bo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743200" y="304920"/>
            <a:ext cx="397836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3T16:33:39Z</dcterms:created>
  <dc:creator>Faye Humbard</dc:creator>
  <dc:description/>
  <dc:language>en-US</dc:language>
  <cp:lastModifiedBy>Connie Campbell</cp:lastModifiedBy>
  <dcterms:modified xsi:type="dcterms:W3CDTF">2005-05-09T18:23:10Z</dcterms:modified>
  <cp:revision>14</cp:revision>
  <dc:subject/>
  <dc:title>PowerPoint Presentation</dc:title>
</cp:coreProperties>
</file>